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6205E-D6EE-4FDB-B445-90108F436D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BC750-6306-4FAE-B82A-F83399B1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C97D2-8016-4515-8E74-33DE6911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CBF3E-9E1C-47BC-A46B-A4558E1D1F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06903-DEFC-4416-ABDB-F121512D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4F659-F50B-43B7-A18B-6612F5CC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06B3E-8C45-434C-9707-1FE2EF75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DFC70-22A4-41D4-B02A-7C14352D5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9ABB5-7BA5-4192-BC76-7CBC1CAC9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CE8F4-3931-430B-9CF1-1ED5E573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DA748-13C1-4C4D-835E-B288C36E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FD51D-A7FA-4607-8640-E94B9851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1696-75D4-4278-881C-35496E9FDEC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六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脓胸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双侧急性脓胸，入院后行双侧胸膜腔闭式引流，并给予抗炎、补液治疗，每天行胸膜腔冲洗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后，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显示胸膜腔积液消失，患者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的护理要点有哪些？②如何对该患者进行健康教育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及肺扩张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膜腔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协助医师进行胸膜腔穿刺抽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训练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慢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ronic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的病程长达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，可由急性脓胸发展而来，也可因脓腔内异物存留或与胸膜腔毗邻的慢性病灶而形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出现低热、乏力、消瘦、贫血、低蛋白血症等慢性消耗症状；有时可伴气促、咳嗽、咳脓痰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廓内陷，呼吸运动减弱，肋间隙变窄，支气管及纵隔偏向患侧；听诊呼吸音减弱或消失；可有杵状指（趾）、脊柱侧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患者全身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灭脓腔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恢复肺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脓胸、局限性脓胸、全脓胸、脓气胸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脓胸、慢性脓胸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急性脓胸与慢性脓胸的临床表现、治疗原则、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脓胸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运动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营养摄入不足、代谢增加、消耗增加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出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反常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胸膜腔内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需采取正直姿势，坚持练习头部前后左右回转运动，练习上半身的前屈运动及左右弯曲运动，使之恢复到健康时的活动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行呼吸功能训练和有氧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脓胸主要继发于肺部感染；慢性脓胸可由急性脓胸发展而来，也可因脓腔内异物存留或与胸膜腔毗邻的慢性病灶而形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现为体温升高、呼吸急促、食欲减退、胸痛、乏力、呼吸运动减弱等。急性脓胸肋间隙饱满，叩诊呈浊音；慢性脓胸胸廓内陷，肋间隙变窄，支气管及纵隔偏向患侧，可有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控制感染，改善全身情况，排出胸膜腔脓液，必要时手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加强营养，改善呼吸功能，做好胸膜腔闭式引流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结核性胸膜炎突发高热、气促、咳脓痰，在当地医院治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未见好转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8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疲乏无力，精神不振，右侧胸腔叩诊呈浊音，听诊呼吸音减弱、大量痰鸣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：右侧胸膜腔大量积液，纵隔左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侧胸膜腔穿刺抽出脓性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为结核性脓胸，给予抗结核治疗，并抽取积液，行胸膜腔冲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如何改善患者的呼吸功能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存在“体温过高：与感染有关”；右侧胸膜腔大量积液，呼吸音减弱，存在“气体交换障碍：与脓液压迫肺组织有关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呼吸功能：协助患者取半坐卧位，以利于患者呼吸；给患者吸氧，氧流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4L/m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鼓励患者咳嗽、咳痰，痰液粘稠不易咳出时行雾化吸入，以促进痰液排出；协助医师进行胸膜腔穿刺抽脓和冲洗，以排出脓液，降低胸膜腔内的压力，促进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多为继发性感染，主要的原发病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纵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膈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的临床表现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、脉快、呼吸急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、咳嗽、咳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侧呼吸运动减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叩诊呈鼓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听诊呼吸音减弱或消失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慢性脓胸的病程一般长达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A    2. D   3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高热、胸痛、呼吸困难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入院。入院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饮酒后呕吐物误吸入肺内导致肺内感染，持续高热、寒战，静滴抗生素无效，并出现胸痛、呼吸困难、咳嗽、咳黄色脓臭痰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9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清合作，表情痛苦，呼吸运动减弱，肋间隙饱满，叩诊呈鼓音，听诊呼吸音减弱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双侧胸膜腔大量积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膜腔穿刺：抽出黄色脓液。脓液细菌培养为金黄色葡萄球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有高热、脉快、呼吸急促、食欲减退、胸痛及全身乏力等不适，积脓较多者尚有胸闷、咳嗽、咳痰等症状，甚至发绀和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呼吸运动减弱，肋间隙饱满，叩诊呈浊音，听诊呼吸音减弱或消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排尽胸膜腔积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支持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3:11Z</dcterms:modified>
  <cp:revision>87</cp:revision>
  <dc:subject/>
  <dc:title>内科护理学</dc:title>
</cp:coreProperties>
</file>